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CAC91-2FE8-40B4-B4CC-EE370C6F4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A66B-D0E1-4AB5-8D35-A0EE1885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0734-5DBD-4C4B-A684-300110D2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A820-C278-4A24-B6A0-09EC11B5B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E727-BE46-41C8-9BD6-55D1F80B1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C54A-F2D1-45C9-B0F2-754A11F4A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1999-212D-4D51-931A-095C8936A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B3F-3295-4BB5-9BAC-9ECBA2B66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76DE-1DFF-441C-9534-C21AEE2C1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AC2F-F3BE-4CAD-8F2F-C64F95F41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9F09-07F9-4CDB-BE44-2DE7CE87D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F377-133A-40D4-AAFD-2B5918F16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8B21C-A0DD-4D99-B55C-2742122AEB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80880" y="1447920"/>
            <a:ext cx="815364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cffff"/>
                    </a:gs>
                    <a:gs pos="100000">
                      <a:srgbClr val="4f6363"/>
                    </a:gs>
                  </a:gsLst>
                  <a:lin ang="5400000"/>
                </a:gradFill>
                <a:latin typeface="Times New Roman"/>
              </a:rPr>
              <a:t>IS THE HEAT ON?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cffff"/>
                  </a:gs>
                  <a:gs pos="100000">
                    <a:srgbClr val="4f6363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80769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Century Gothic"/>
                <a:ea typeface="Arial"/>
              </a:rPr>
              <a:t>Questions that you have already answered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324480" y="1904760"/>
            <a:ext cx="2819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Is heat needed to support life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200400" y="1676520"/>
            <a:ext cx="2855880" cy="28954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80880" y="1752480"/>
            <a:ext cx="2590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These are the enduring questions we’ve been exploring as we study the su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0"/>
            <a:ext cx="4952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Do warmer climates maintain a better quality of life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3809880"/>
            <a:ext cx="28195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How is heat transferred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181480"/>
            <a:ext cx="358128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9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What role does insulation play?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43000" y="1600200"/>
            <a:ext cx="7086600" cy="35812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95280" y="1752480"/>
            <a:ext cx="6782040" cy="31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You are an engineer for Survivor International.  Your task is to build a device that will utilize the sun’s energy for people who find themselves in a survival situation.  Your prototype could be the start of a new revolution in tapping the sun’s power to replace fossil fue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5410080"/>
            <a:ext cx="792504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To begin this endeavor, we have to ask other question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685800"/>
            <a:ext cx="70102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ere is the Design Challenge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743200" y="22860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are the factors that limit solar heat transfer?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4343400"/>
            <a:ext cx="6324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How does the Earth’s rotation and the sun’s position affect heat and temperature on Earth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00800" y="1981080"/>
            <a:ext cx="533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077320" y="380988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16002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4876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600200" y="396252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238880" y="480060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62920" y="585144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67480" y="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304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96080" y="1447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077320" y="5486400"/>
            <a:ext cx="1066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5880" y="585144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895480" y="3733920"/>
            <a:ext cx="1067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1143000"/>
            <a:ext cx="609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What effect does solar energy have on light and dark materials, and how can we make use of this effec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971800" y="2590920"/>
            <a:ext cx="5791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effect does solar energy have on different materials, such as glass, plastic, and meta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971800" y="579132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ahoma"/>
                <a:ea typeface="Times New Roman"/>
              </a:rPr>
              <a:t>What role does geographic location play?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sign Challeng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esign an innovative form of technology that will utilize solar power to transfer heat energy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76720" y="236232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Ah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28680" y="379080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valuate and choose your technology desig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8600" y="5257800"/>
            <a:ext cx="610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nk deeply to answer reflection  ques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228680" y="579132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ally present your project to the cla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22868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vestigate solar ener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228680" y="4457880"/>
            <a:ext cx="74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k as a team to develop a plan, blueprint, or model of your new technolog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19320" y="624852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 scientific processes (ie the Scientific Metho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Design Challenge Question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440" y="1676520"/>
            <a:ext cx="7620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How can I harness solar energy and transfer it to energy that can be used in everyday life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276720" y="2362320"/>
            <a:ext cx="456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ork Ahea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28680" y="3790800"/>
            <a:ext cx="730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 Proced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5029200"/>
            <a:ext cx="72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dentify Variables, Label Any Measurements and Make Calcul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867280"/>
            <a:ext cx="722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scribe Results and Conclus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28680" y="3124080"/>
            <a:ext cx="563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ypothe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228680" y="4457880"/>
            <a:ext cx="74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List Materials Need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-76680"/>
            <a:ext cx="50292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our Oral Presentation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cludes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1523880"/>
            <a:ext cx="396252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nation of your design; its parts and how they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su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and Concise Use of Voice and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, Non-verbal Expression, and M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ye Conta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43400" y="3352680"/>
            <a:ext cx="4572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thusiasm and Excit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tations for design and other 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5334120" y="380880"/>
            <a:ext cx="306216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2T18:41:04Z</dcterms:created>
  <dc:creator>ECC</dc:creator>
  <dc:description/>
  <dc:language>en-US</dc:language>
  <cp:lastModifiedBy>Administrator</cp:lastModifiedBy>
  <dcterms:modified xsi:type="dcterms:W3CDTF">2007-12-18T14:15:29Z</dcterms:modified>
  <cp:revision>32</cp:revision>
  <dc:subject/>
  <dc:title>PowerPoint Presentation</dc:title>
</cp:coreProperties>
</file>